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863-4CDA-4299-8051-B2EB72FD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DA7-99C6-4A0C-9A4B-AEE66325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6BB-D4BF-412D-BAF5-B28B72E5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78A-037F-40BA-B955-900FF227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3001-AC28-4003-AE1B-F8074092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C6B9-648D-4EE4-AED8-2A542F88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FBF4-91F0-47AA-A037-29C9B02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D4A4-4580-457B-80CD-4546F9A7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3AFE-3D74-43F7-BDC8-92171D2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69F3-5F07-46E5-B4CD-3DAFC7B1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7EDD-B1B4-4738-8986-7F2D4835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1C7-7828-4666-867C-8403DF7D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CED5-2EAD-4EF7-AF23-3AD80CC0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5341-2F98-41D2-9257-0E55CB4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18B8-B124-4042-A11B-42668E05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7F3E-4443-40D9-A18D-39EC9E44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E014-A864-4D70-921B-F11AD8F8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0FB-8F63-47E3-A6EB-029A3CF0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13B-B84E-450E-8746-6C7AD5D5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0E9-9420-47A9-859A-73A6E88B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5AD-1A1B-4BB0-9444-63B517A4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D72-5138-4492-B868-0608658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7E9-AAC8-4357-BAC2-24A67E2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15A-CFD9-4702-A6B4-255C161E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15C-1BCA-4C5A-B395-AC294F33EEE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3410-C1EE-4592-89A0-BE9FF9A44C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Marketing i </a:t>
            </a:r>
            <a:r>
              <a:rPr b="0" lang="sr-Latn-CS" sz="4600" spc="-1" strike="noStrike">
                <a:solidFill>
                  <a:srgbClr val="006633"/>
                </a:solidFill>
                <a:latin typeface="Garamond"/>
              </a:rPr>
              <a:t>distribucija </a:t>
            </a:r>
            <a:br>
              <a:rPr sz="4600"/>
            </a:br>
            <a:r>
              <a:rPr b="0" lang="sr-Latn-CS" sz="4600" spc="-1" strike="noStrike">
                <a:solidFill>
                  <a:srgbClr val="006633"/>
                </a:solidFill>
                <a:latin typeface="Garamond"/>
              </a:rPr>
              <a:t>softvera u Srbiji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aliza i predlo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F349-BA33-44FC-8C62-2913AE8A96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Sadržaj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Dosadašnja marketinška prak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sadašnja distributerska prak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odel “Zi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ednosti modela “Zi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se case prime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DC5-7624-4DEE-8693-834BFBDC07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Dosadašnja marketinška praksa 1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blemi sa kojima se IT firme suočavaj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irater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inansijske moguć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renutno najzastupljeniji način marketing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bjavljivanje recenzije u IT časopis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stavljanje linkova na Intern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vakav pristup se pokazao nedovoljn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504-73FA-4EC1-82CE-712BA9EFAE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Dosadašnja marketinška praksa 2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ogućnosti marketinga su različite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 pogledu neophodnog ulaganja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vremena, truda i finansi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blici primenjivih marketinških aktivnost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ov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V rekl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erila mark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irektni mark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irusni mark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nternet mark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omotivne akc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ponzorst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29B-F851-4C47-9FBB-D3CDAB44D6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Novine 1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rast značaja elektronskih med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širivanje novina i u sferu Interneta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(kopije članaka ili web portal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arketing se u Srbiji sa stanovišta softver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smatra na osnovu tipa novi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nevne nov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esečni IT časopi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esečni specijalizovani časopi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CDC-C08E-4C33-962D-A5D91EFDF5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Novine 2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T časopisi bez finansijske nadoknade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bjavljuju opise softvera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ji su produkt domaćih firm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ene oglašavanja u IT časopisima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(u dinarima, Mart-April 2007.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3755880"/>
            <a:ext cx="6408720" cy="237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BE5-C357-42AF-8898-199022C581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Novine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Contrast” je jedina domaća firma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ja je reklamirala svoj softver “Plan Plus”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dnevnim novina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IT časopisima se pojavljuju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eklame za softver,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glavnom globalni za koj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eklamu plaća distribut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C2B-7CB4-4284-9807-7431835356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TV rek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traktivno jer je TV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jzastupljeniji medij današnj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Loša strana što 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jskuplji oblik reklamiranj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troškovi proizvodnje i zakupa termina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750-F7BC-4299-A8BC-5D1E0F78C73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TV reklama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obilni operater “Telekom Srbije”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 jedina domaća firma koja 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ovisla svoj softver TV reklamama.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pitanju su web sajtovi: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“Na Dlanu” i “MTS:Mondo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eklama za antivirusni program “Kaspersky”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 kanalima kablovskog distributera “SBB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001-D8C1-49A0-8CE1-0386098F22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Gerila marke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Gerila marketing je nekonvecionalan način izvođenja promotivnih aktivnost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snovanih na jako malom budžet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snovni princip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Lakši za sprovođenje malim firm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Baziran na ljudskoj psihologi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mesto novca, primarne investicije: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vreme, energija i kreativn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operacije sa drugim firm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ristiti kombinaciju gerila marketing akc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00F-CDB3-49BE-9478-58E4DF7E43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Gerila marketing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jpoznatija akcija sproveden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 sajt “Chill Out”: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podzemnim prolazima u Beogradu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 stepenicama stavljane nalepnice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logom sajta i adres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sta akcija ponovljen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 web pretraživač “Pogodak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13D-1DB8-4CFE-A32E-A75DEE2DFB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Sadržaj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oftver kao proizv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T tržište u Srbi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sadašnja marketinška prak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sadašnja distributerska prak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odel “Zi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ednosti modela “Zi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se case prime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41A-061D-4CFC-896A-C81B21C2EF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Direktni marke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irektni marketing korist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tandardne poštanske ili elektronske pošiljke kako bi komunicirao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potencijalnim potrošači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sniva se na direktnom merenju uspeha, tako što se od potrošač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hteva povratna inform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unk” i “Spam”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C0D-B570-4757-BB4B-A23CA06309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Direktni marketing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jedini slučajevi “Spam” mailo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eljeni flajeri, ali za određene sajtov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ji ne spadaju u softver od intere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166-3738-4097-A88D-FA1985919F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Virusni marke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riste se postojeć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ocijalne mreže ili komun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ako bi stvorili svest kod njihovih članov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 postojanju proizvo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dovoljna mušterija prenes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rima osobama informaciju o proizvodu,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 nezadovoljna čak jedanae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jpoznatija forma 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“stvaranje žagora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(engl. “Buzz”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1D3-F9F8-4E37-B720-6126FA98C8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Virusni marketing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C igr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iz “Milioner” se 2004.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e neverovatnom brzinom našl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 računarima svih korisnika u Srbiji.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ako bez ikakvog marketinga,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mo buzz koji je stvaran među korisnicima.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 može se sa sigurnošću tvrdit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je buzz planski stvar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 identičan način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web sajtovi “Vukajlija” i “Elite security”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u stekli veliki broj korisni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84B-51AA-41AF-A4D5-A928146498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Internet marketing 1/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akodnevno povećan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ličine informacija na Internetu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velo je do toga da neophodno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valitetno spremiti i sprovest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ociju web saj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ocija u dva segmen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ehnike promocije van sopstvenog saj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ehnike promocije u sklopu sopstvenog saj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712-1DF8-4C5D-A33C-F01B0FA716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Internet marketing 2/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ehnike promocije van sopstvenog saj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ijavljivanje na pretraživačke direktorijume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 pretraživač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eyword Advertising, Contextual Advertising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 Search Engine Marke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ponzorstva (Banner Ad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reiranje dilerskih programa (Affiliate Marke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arketing na osnovu referenciranja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(Endorsment Marke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ijavljivanje na banner exchange progr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632-1C57-4E4F-9FA4-78E1BC5008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Internet marketing 3/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ehnike promocije u sklopu sopstvenog saj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ite Engine Optimization (SE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Backlinko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ootprint saj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Content (sadržaj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What’s new” sekci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kl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iskusione gru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vo pravilo Interneta “Content is the king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0F7-EED4-4166-8F05-1AAAA26080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Internet marketing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jposećeniji domaći sajtov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u svi ispoštovali pravil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ocije unutar sopstvenog saj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blem sa “SEO ekspertima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d rešenja u pojedinačnim segmentima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reba istaći banner exchange program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“HTTP Pool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433-53D7-4782-8EA2-75455577DB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omotivne akci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va ustaljena nači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rganizovanje samostalne akcije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pecijalno za promociju konkretnog proizvo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čestvovanje na već postojećim dešavanj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trebno je angažovan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 animiranje posetilaca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eljenjem propagandnog materijala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upoznavanjem sa proizvo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F61-4E6D-4D6D-8222-3FE9323A34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omotivne akcije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rganizacija samostalnih promocija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 “privilegija” distribute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ksa promocija na igračkim takmičenjima.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esta saradnja između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istributera “Extreme CC”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igračke komune “Klan RUR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776-AD6E-46C8-8DD8-3FCC289FEE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Uvod 1/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izvod ne prodaje sam sebe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Greška ljudi koji razvijaju softver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 što smatraju da s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 završetku razvoja prekid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treba za daljim naporima i ulaganji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najbolji softver će proći neuspešno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koliko nije praćen adekvatnom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arketinškom k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nj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813-2D54-4EFF-8246-C1B29067E7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Sponzorstv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rist za obe stra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oftverska firma u sponzoru nalaz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ešenje svojih finansijskih problema,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k sponzor preko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izvoda sponzorisane firm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lazi do novih krugova potrošač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A2A-C927-4B36-A73E-54F30FB7BF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Sponzorstvo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radnja između web sajta “Chill Out”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kompanije za proizvodnju piva “Beck’s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1E9-C574-4148-8DCE-F8B43F012A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Sadržaj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sadašnja marketinška prak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Dosadašnja distributerska prak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reža resel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nline proda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odel “Zi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ednosti modela “Zi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se case prime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5B4-5105-4669-81D6-E92D740D86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Dosadašnja distributerska praksa 1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načan cilj marketinške akcije je kupovina proizvoda od strane korisni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koliko se kupovina vrši fizičk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ophodno je da softver postoji u radnji,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 ukoliko je kupovina onlin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treban je integrisan sistem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ji omogućava takvu kupovin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EE0-41F9-436F-89CD-B73C5B18E3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Dosadašnja distributerska praksa 2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Cena mora biti standardizovana sa tržištem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kompetitivna u odnosu na konkur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pecifično za IT svet 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ličinsko licencira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blici licenc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ully Packaged Product (“kutija sa polica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riginal Equipment Manufa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Volume Licensing (količinsko licenciranj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583-65AF-4EF6-AD24-C282FFA3D1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Mreža resel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eseler je kompanija ili pojedinac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ji kupuje proizvod sa namerom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ga dalje prodaje, a ne da ga koris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reža reselera prvenstveno podrazumeva organizovanje lanaca prodavnic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kojima se pod jednakim uslovima dogovara prodaja proizvod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rganizovanjem mreža se uglavnom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bave distributerske firm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D95-F279-41D1-9E1B-FD1F09B8FA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Mreža reselera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itava površina Srbije još uvek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ije pokrivena ni jednom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oftverskom distributerskom mrež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jveća domaći IT distributer "Extreme CC" ima u svojoj reselerskoj mrež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što preko 100 objek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istributer “Smart” softver plasira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u lancima supermarketa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2F7-58AF-4104-ADC8-6D975097A3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Online prodaja 1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E-komerc je u 2006. godini iznosio oko 4%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d ukupnih novčanih transakcija u svet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daja softvera putem Internet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e može podeliti na dva oblik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daja nakon koje kupcu na kućnu adresu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tiže "kutija" koja sadrži softver i ostale dodat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daja nakon koje je kupac u mogućnosti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a downloaduje softver sa saj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6A2-C897-4BDC-A30E-D7D01EEA451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Online prodaja 2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drugom slučaju (download) neophodno je omogućiti sigurnu novčanu transakciju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preuzimanje softve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pecijalizovani sajtovi-aplikaci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ji pružaju ovu objedinjenu uslugu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zivaju se "Payment gateway"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C92-4754-4E19-8FE4-B239E02913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Online prodaja - pr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ćina domaćih firmi koristi uslug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ayment sajta "PayPal“,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dnog od  najpopularnijih sajtov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e vrste na globalnom tržišt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liki problem 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postojanje domaćeg sajt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ji bi pružao ovakvu uslug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F7B-2874-4C5D-AE97-242AC60C7B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Uvod 2/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istribucija je proces transfera proizvod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d proizvođača, preko posrednika,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o potrošača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arketing je proces planiranja i izvršavanja reklamnih zamisli, određivanja cen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promocija kako bi se za proizvod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reirala i održavala veza sa  potrošačima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8D7-2B4B-40D0-85EF-3AB9A41F4A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Sadržaj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adašnja marketinška pra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adašnja distributerska pra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odel “Z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vi s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ugi s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iši sl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dnosti modela “Z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e case pri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9F2-5E56-4A46-8BC1-2DEC565DF0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Model “Zid” 1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vaj model je rezultat analize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zvršene u prethodna dva poglavlja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 predstavlja sistematičan pristup proble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odel u sebi objedinjuje i marketing i distribuciju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o neraskidive delov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443-F2E7-46DC-8495-9E214AE28D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Model “Zid” 2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me potiče od vizuelnog izgleda strukture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oja podseća na zid,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ok segmenti predstavljaju cigle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oje čine isti taj zi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Značaj segmenata za uspeh sprovođenja modela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e povećava kako se kreće od podnožja modela ka vrh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165-4E2D-4789-A207-90E017473B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Osnova 1/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vi gornji segmenti se 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lanjaju na pretpostavku 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je u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osnovi “čvrst temelj”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tpostavlja se da softver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kao proizvod 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ma kvalite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a koji se mogu 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adoveza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rketinške i distributivne aktivnosti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56000" y="2997360"/>
            <a:ext cx="3887640" cy="863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85F-378C-41C6-A2EC-B4B214BFA22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Osnova 2/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ezivni materijal” modela predstavlja 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oces pozicioniranja softve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ozicioniranje uključuje definisanje proizvoda, 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dređivanje ciljne potrošačke grupacije 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 razloga zbog kojih bi ta grupacija želela proizvod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56000" y="2997360"/>
            <a:ext cx="3887640" cy="863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5F1-AA67-4AF4-A851-1BA8F55860E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Osnova 3/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zicioniranje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htev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odgovore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itanj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Kojoj kategoriji ili tipu softvera konkretan proizvod pripad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Koje su to značajne prednosti i mogućnosti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koje ovaj softver donosi svojim korisnici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Koje su to prednosti ovog softvera u odnosu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a druge koji su mu kompetitivni u toj kategorij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56000" y="2997360"/>
            <a:ext cx="3887640" cy="863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E4C-C87D-48A2-9E25-A149966D36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Osnova 4/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kon razvoja sofvera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aran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temel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 pozicioniranja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pravljan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vezivnog materija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že se krenuti sa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reiranjem ostalih segmenata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dan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zi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56000" y="2997360"/>
            <a:ext cx="3887640" cy="86328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D70-D973-48A5-AA15-830A193D68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vi sloj 1/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 prvom sloju nalaze se segmenti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bez kojih se model ne može sprovest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vi ostali segmenti iz gornjih (2+) slojeva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e zasnivaju postavkama koje su rezultat sprovođenja segmenata iz prvog slo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56000" y="2205000"/>
            <a:ext cx="3887640" cy="93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FCB-5DED-4625-8839-E918E026BC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vi sloj 2/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700" spc="-1" strike="noStrike">
                <a:solidFill>
                  <a:srgbClr val="000000"/>
                </a:solidFill>
                <a:latin typeface="Arial"/>
              </a:rPr>
              <a:t>Web sajt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je centralno mesto </a:t>
            </a:r>
            <a:br>
              <a:rPr sz="1700"/>
            </a:b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celokupne marketinške kampanje i podrške kupcim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ajt mora biti dizajniran tako da ispunjava zahteve "Informacione arhitekture"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Informaciona arhitektura, u skladu sa definisanim pozicioniranjem softver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kreira jedinstven korisnički doživlja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predviđa gotovo sve poteze posetioca saj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kvalitetnom i nedvosmislenom navigacijom olakšava pronalaženje informacij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56000" y="2205000"/>
            <a:ext cx="3887640" cy="93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F9C-A0B0-49AC-8C54-71A3B4694A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vi sloj 3/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ez obzira da li je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reža reseler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ovana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rektno od strane firme koja je i razvila softver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 je taj posao prepušten distributerskoj firmi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mreža formirana na području Srbije mora zahte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 obuhvata što veći broj gradova u Srbi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 osigura identične cene za sve oblike licenci softvera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ma prethodno kreiranom pozicioniranju,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zavisno od toga ko je rese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56000" y="2205000"/>
            <a:ext cx="3887640" cy="93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252-0075-4CA6-AB1C-F1C019005B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Softver kao proizvod 1/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oftver je programska celina ili set instrukcij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jima se kontroliše rad računa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ćina softverskih firmi u Srbiji se bav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azvojem softvera za druge firme,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to je taj softver jako prilagođen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trebama tog konkretnog klije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akvom softveru nije potreban market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6BA-B6CE-41F1-9041-56B206B34F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vi sloj 4/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eophodno je obezbediti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ogućnost 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online kupovin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softve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oces kupovine može biti implementiran na sajtu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li će se koristiti usluge payment gateway sajtova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Bitno je da se sa svih mesta koje nude mogućnost kupovine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zvrši redirekcija na to centralno me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56000" y="2205000"/>
            <a:ext cx="3887640" cy="93672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52F-08AE-4B0B-82C5-7B414DDC5D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Drugi sloj 1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egmenti čije je sprovođenje nije obavezno,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li u uslovima na srpskoj IT sceni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je od izuzetne važnos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ećina segmenata,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a izuzetkom segmenta "Promotivne akcije“,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e zahteva veće finansijsko ulagan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56000" y="1557360"/>
            <a:ext cx="3887640" cy="79200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CBF-BE32-4A54-95B0-A2659A91A4C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Drugi sloj 2/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edosled sprovođenja segmenata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odatno može povećati hype među korisnici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ptimalni redosl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javljivanje sajta na pretraživačke direktorijume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 pretraživače (Offf-site promocija sajt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T časopisi (Promotivne akcij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lično animiranje (Gerila marketing akcij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nternet buzz (Offf-site promocija sajt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Blurbs (Offf-site promocija sajt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čestvovanje na već postojećim dešavanjima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i manifestacijama (Promotivne akcij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24D-08FD-4B2C-8089-E68AAC6E2A7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Viši slojev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alja nadogradnja modela "Zid" dodatnim segmentima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je ostavljena alternativnom u zavisnosti od tipa softvera,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inansijskih i drugih resursa razvojne ili distributerske fir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no što model "Zid" zahteva je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provođenje slojeva zaključno sa drug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14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56000" y="1052640"/>
            <a:ext cx="388764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F83-DF05-46D1-8864-F939AB3FF9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Sadržaj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adašnja marketinška pra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adašnja distributerska pra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del “Z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dnosti modela “Z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e case pri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B99-BD11-4E16-99ED-7EBCD0BE54C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ednosti modela “Zid” 1/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snovna prednost koju donosi model "Zid"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odnosu na dosadašnju praksu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sistematičan pristup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odel uspostavlja </a:t>
            </a:r>
            <a:br>
              <a:rPr sz="3000"/>
            </a:b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međusobnu povezanost segmenat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ime se omogućava 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slanjanje jednog segmenta na drugi,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akvi segmenti se mnogo lakše sprovod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uz manje troškove resu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B81-3CE7-49D7-96B4-4B11EE1D5F2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ednosti modela “Zid” 2/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odel je </a:t>
            </a: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slojev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 taj način se jasno definiš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načaj pojedinih segmenat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određuje hronološko mesto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marketinško-distributivnom proces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06A-6F63-4405-B6EF-9E777AD04F5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ednosti modela “Zid” 3/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sredno prednost je što model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hteva </a:t>
            </a: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celokupno planiranje model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e nego što je počet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ces razvoja softve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ranoj fazi se otkrivaju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ophodne izmene i prilagođenja softve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 taj način se razvojnom timu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ogu blagovremeno dat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dgovarajuće instrukci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BFF-5FBD-46AB-A09C-0978A12B63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Sadržaj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adašnja marketinška pra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adašnja distributerska pra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del “Z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dnosti modela “Z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se case pri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lan Plus” – najpopularniji domaći soft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D32” – primena modela “Zi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1E0-F93F-4106-9383-DEE8A3442F6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Plan Plus” </a:t>
            </a:r>
            <a:br>
              <a:rPr sz="3800"/>
            </a:b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– najpopularniji domaći softver 1/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izvod firme “Contrast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razvojem početo 1998.,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dnja verzija 200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d 2006. aktuelan i web sajt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identičnom funkcionalnošć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dnja verzija prodata u preko 25000 kopija,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datih kopija prethodnih verzija oko 300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97C-E3B2-4B81-8340-0871C57FE02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Softver kao proizvod 2/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naliziraće se softver namenjen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lasmanu na slobodno tržiš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ao poseban oblik softver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retiraće se web sajtovi,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li oni koji su sami po sebi proizvod,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 ne web home za druge proizvo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DF6-6AC1-4314-943C-B941312B47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Plan Plus” </a:t>
            </a:r>
            <a:br>
              <a:rPr sz="3800"/>
            </a:b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– najpopularniji domaći softver 2/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talna saradnja sa IT časopisi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rganizovanje mreže reselera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epušteno distributeri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istributer “Extreme CC”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dužen za knjižare i IT prodavn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istributeri “Press International” i “Portir”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duženi za prodajna mesta štamp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vi softver koji se mogao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upiti u trafic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2D7-7491-46AF-8A50-63E1315906C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Plan Plus” </a:t>
            </a:r>
            <a:br>
              <a:rPr sz="3800"/>
            </a:b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– najpopularniji domaći softver 3/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d ukupnog broja prodatih kopij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40% preko distributerskih mrež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60% direktnom prodaj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dogovoru sa ditributerim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zajedničkom podelom troškov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e u dnevnoj štampi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koliko puta objavljivana rekla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ocija web sajta je sprovedena uključenjem u baner exchange program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jta "HTTP Pool“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984-6F3C-4A4B-842C-90923A85C6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Plan Plus” </a:t>
            </a:r>
            <a:br>
              <a:rPr sz="3800"/>
            </a:b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– najpopularniji domaći softver 4/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skorišćena je specifičnost aplikacije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 reklamiranje drugih firmi ili pojedinac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samom program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rade od softvera "Plan Plus“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40% od reklamiranja unutar progr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60% od prodaje samog softv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štita od piraterije uveden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baveznom registracij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"Plan Plus" je postao samoisplativ progr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EF6-E08A-483D-9963-781E2A70EB9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NOD32” – primena modela “Zid” 1/9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utor rada u periodu April-Maj 2007.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rađivao sa "Centrom za razvoj Interneta"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kreiranju marketinške kampan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 antivirus program "NOD32"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kreiranju kampan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ri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eni su principi modela "Zid",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ji je istovremeno razvij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9F5-231F-4AB1-AD1E-0A4A193E1F1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NOD32” – primena modela “Zid” 2/9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Osnova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"NOD32" je proizvod slovačke firme "Eset"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 jedan je od najpopularnijih i najboljih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ntivirus programa na globalnom tržištu.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o je dovoljna garancija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a je "temelj" modela d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zicioniranje softvera obavljeno je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a akcentom na identifikaciji ciljne gru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A2F-27C9-455C-9FB8-CE26EB95B18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NOD32” – primena modela “Zid” 3/9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Osnova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dentifikovane su dve ciljne grup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ala i srednja preduzeć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jedin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oneta je odluka da se vode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ve "odvojene" marketinše kampanje, 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vaka posvećena jednoj od ciljnih grup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oseći slogani dve kampan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Zaštitite svoju firmu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Zašttite svoj kompjut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CD5-C2B9-42A1-957C-D384F913A9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NOD32” – primena modela “Zid” 4/9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Prvi sloj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Web sajt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avljenje je povereno firmi spoljnom saradnik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izuelni identitet sajta zasniva se na matičn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avna strana da bude oslobođena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elike količine sadržaja,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 da sadrži dva velika logoa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oja bi identifikovala dve marketinške kampanje,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 u zavisnosti od interesovanja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smeravala posetioca na potrebne str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7CA-F002-4573-9D2B-DB99DE030D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NOD32” – primena modela “Zid” 5/9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Prvi sloj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reža reselera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klapanje ugovora sa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istributerskom firmom "Extreme CC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irmama i IT prodavnicama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z područja nepokrivenih distribucijom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pust na količinu kupljenih kopi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Online proda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Redirekcija na sajt matične firme “Esen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03D-01D6-4E62-A50C-99C102A1F08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NOD32” – primena modela “Zid” 6/9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Drugi sloj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Off-site promocija sajta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ključivanje u besplatne banner exchange programe,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zbog preusmeravanja finansija na druge seg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Gerila marketing ak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lanirana je jedna velika akcija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u okviru  druge kampan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a prometnijim lokacijama postaviti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alepnice sa stilizovano predstavljenim virusima.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e upadljive nalepnice bi stajale nekoliko dana,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zatim bi se preko njih zalepio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logo "NOD32" i poruka "Zašti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e svoj komjuter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353-CDFD-467C-B0ED-3B4227FB1A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NOD32” – primena modela “Zid” 7/9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000000"/>
                </a:solidFill>
                <a:latin typeface="Arial"/>
              </a:rPr>
              <a:t>Drugi sloj.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Buzz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lanirano je animiranje nekoliko komuna: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"Mojblog", "Serbian Caffe"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omotivne ak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ršenje promocije u sklopu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rugih aktivnosti “Centra za razvoj Internet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likom uvođenja instalacija za Internet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 slanja mesečnih računa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baviti i deljenje promo materija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601-28E7-4912-9D60-5C123B8B3A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IT tržište u Srbiji 1/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ezultati statistike iz 2006. godine,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ju je sproveo “Republički Zavod za Statistiku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6086520" cy="36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3EA-F525-48E5-A3F3-05E34C5E80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NOD32” – primena modela “Zid” 8/9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000000"/>
                </a:solidFill>
                <a:latin typeface="Arial"/>
              </a:rPr>
              <a:t>Viši sloj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aradnja sa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distributerskom firmom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za prezervative “Trojan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Zajednička kampanja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“Zaštitite se od svih virus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lanirane akci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andovi na noćnim dešavan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ket “1+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up bilbo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5207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CEC-B094-4D68-A66E-31F8908883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sr-Latn-CS" sz="3900" spc="-1" strike="noStrike">
                <a:solidFill>
                  <a:srgbClr val="006633"/>
                </a:solidFill>
                <a:latin typeface="Garamond"/>
              </a:rPr>
              <a:t>NOD32” – primena modela “Zid” 9/9</a:t>
            </a:r>
            <a:endParaRPr b="0" lang="en-US" sz="3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arketinška kampanja nije sprovedena.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Razlozi su interni sukobi unutar fir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e što je urađeno je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stignut ugovor s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istributerom "Extreme CC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370-F6A1-4C76-9123-69F2F4C5656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Litera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"Wikipedia",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http://wikipedi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apić, D., "Marketing na Internetu", </a:t>
            </a:r>
            <a:br>
              <a:rPr sz="3000"/>
            </a:b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Šapić Dejan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Srbija, 200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"Joel on software",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http://www.joelonsoftware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Chapman M.,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"The Aegis Product Positioning Workbook", </a:t>
            </a:r>
            <a:br>
              <a:rPr sz="3000"/>
            </a:b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Aegis Resources Inc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USA, 200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9F7-967C-4051-AC05-A215B5D8C5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IT tržište u Srbiji 2/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ezultati statistike iz 2006. godine,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oju je sproveo “Republički Zavod za Statistiku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28676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AB5-6D72-4852-89D6-B5805681E5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6633"/>
                </a:solidFill>
                <a:latin typeface="Garamond"/>
              </a:rPr>
              <a:t>IT tržište u Srbiji 3/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edviđa se dalji rast IT tržišta,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e svega zbog porasta 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broja korisnika Interne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vođenje broadband pristupa Internet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ormirano “Ministarstvo za</a:t>
            </a:r>
            <a:br>
              <a:rPr sz="3000"/>
            </a:b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elekomunikacije  i informatičko društvo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plomski rad, Dejan Vukmirović deyo.vuk@g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68B-4904-41C9-B699-B3359FAE53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erzija: 22.06.2007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agan Milićev</dc:creator>
  <dc:description/>
  <dc:language>en-US</dc:language>
  <cp:lastModifiedBy>REVGARDE</cp:lastModifiedBy>
  <dcterms:modified xsi:type="dcterms:W3CDTF">2007-07-03T10:26:34Z</dcterms:modified>
  <cp:revision>4289</cp:revision>
  <dc:subject>Uvodni kurs</dc:subject>
  <dc:title>Objektno orijentisano programiranje na jeziku C++</dc:title>
</cp:coreProperties>
</file>